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BC2-4666-49A3-B38A-2EFCAC68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B94-3437-4ACA-B3D2-426EE7FB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BC1C3-48B6-4808-A693-273DFB6F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3C7E8-0406-489E-8831-FA0B26EE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F2D81-DEDF-42F6-ACE8-0F1CC94A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0B763-BA38-4755-8CA9-82524ECF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AA46B-E31B-450D-8190-63D6D862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1F6CB-FFB4-4EE1-8842-871798E5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828CF-C529-4293-87D1-05C4B4CF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5BCD5-E626-4599-8113-903425EC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5E01A-BC63-4C22-929C-11DDC491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FAD0B-5123-4235-A7BE-F55C925C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33F-E758-45DC-AF99-7C55FB38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B6FFE-902F-4315-946F-80F816E2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180B5-80B7-4E08-A374-C5E10F64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7942D-986A-453C-9E72-1B0D4649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6552C-D22A-4F3E-8040-903DEE9B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83C5C-248A-4028-8C89-E20F261E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AA611-9081-464B-829F-DDA4E7AA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FC829-22A4-4012-8276-636FE618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2AF8E-E9A7-425B-89D2-DD5AB721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C39C1-629F-4B2B-B5C5-52D59071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4B706-3D74-4C64-B408-41E275CB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554-F4F0-4F88-9E62-3484AA3D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17630-377E-407F-AF5B-A0BCC90C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4AC06-3DCF-4050-A183-20C44B74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71C0B-ADBB-4D25-874A-259F3E0B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0590C-3314-45C3-9BB3-55921C54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F5DE0-6E76-4974-8DF9-0E73E163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A8C9E-7AD0-4E79-9374-9F0210B5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29AD7-2D38-47DA-9265-CEF7C25B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33F50-351C-4C0C-A885-7BB9B815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9B0D9-EB08-4F76-9DD3-0F97A35E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10C37-E858-47B5-A3D6-6E0F7EBA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E5C2-23EC-427E-A00C-64C82C0E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9E09F-F0C2-4C2D-ADBC-807C871E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2C736-F46F-4C73-B30C-F9BE6559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0FB05-494F-4840-A94F-84817381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5A82C-FF2E-4F0E-9B82-62EB4573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7B318-8FF9-4914-A449-213D9FE8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205FB-1565-4F0B-A93E-3F63E779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7DEBF-A8B0-4787-84DB-9B0C1EB0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D6097-4500-4AC4-8CBA-2D07C6F9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793DB-6C43-4B9A-BD8D-34CC52FE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CE86A-7CBC-4DF5-9CFA-F2BF454C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B52B-3CD8-448B-9FF3-E0480ACB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1CC2C-87C9-4C21-A8B9-B13B1719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175C5-CAB9-428F-9F52-E5D2D053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48ACC-4A88-4A90-BCA7-5AEB0946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DB7F8-1E0B-4038-865D-95547A84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2B082-C467-4B26-8F83-D67886C1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9DA03-DE4D-4DC7-AAE6-93733B6B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4E4B8-B14E-4368-8BD7-F18A9C35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19896-59ED-434C-86CE-32BDD01C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D99FC-D587-4B6A-A87D-70F20A04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FCD84-7732-4545-8C32-27F9A15A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AA4F-5A7B-48A0-9E2C-00C63F24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727D0-9823-4991-B8BB-2CF8FCDC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BD681-4FD9-4D4F-AC90-6A2CC18F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78AD5-9B07-4EB9-9ED7-8583BFF5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C02CB-76AB-4EE7-BDFB-6FF08247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CBB9D-7541-4775-90D1-E4408985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35D16-E45A-42D1-A4D3-30B14F8E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6B0C5-AE91-46CC-BFF9-F29C4B02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EF837-072A-4F3E-8759-96176C19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A6BAC-15F3-4A72-8662-7EB25022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361B8-D713-46FD-9A6F-3D290183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82C6-C5CF-40FD-B85C-9DB461BC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26561-8062-471C-87F6-E8D2FAD1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3276E-43FF-4085-983C-F627B1E7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1D3D6-8C64-4148-8079-3AF1003B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1CE55-13E4-4EA7-8F0C-DCBF4356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06264-E64F-49E3-B70F-1736ADCA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F60F7-9583-438A-BB65-D504EEEB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FF248-0981-4EC1-A762-131051AF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1E924-CEA3-4B77-8F38-E938E19A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21D02-2A42-4E61-93D6-60C3B5F0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778FF-CF31-44E8-B229-4BAF5DEB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BA8B-279A-4329-BC87-B8B152F6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922BB-D62F-471D-A1CE-D29F430F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9456A-103F-477C-811E-FCDDE9D7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AF0D2-64DC-4337-AD24-000837D1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7C081-BDAB-4F6D-95FD-7F349679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9E94EE-3CB1-41D7-94F2-848C7AF3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30318-7677-436B-B121-0A6FC3F2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00612-862E-4368-917B-1C4B26D7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A21689-D612-4CF4-9A66-0DE20C4D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EE52D8-89B7-407A-88B9-B366C52F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A732E6-AF7D-493B-94C8-259B909B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D011-EB82-4390-8FB6-8E1A19DF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30E0F-4D6B-4AE6-8D59-5403777B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E7417-AB19-43FC-BDF6-9B611AA1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5A72D-099D-417E-9654-C62E99F3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83607-8E2E-46D7-A867-3BAC115F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B9821-0DF6-40C5-94D7-511FE9DA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E3739-BA8A-41FD-ABF1-AD46CA29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478C1-3D67-4AF8-80CD-F79EC1A8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78AB9-E6EA-477D-9D64-822CD573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89AE8-C7C8-418A-B097-831AE092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12816-F758-4C88-AFBD-20432F36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D125-A727-4DE2-807F-90703915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D9A88-442E-475F-B50E-48BB0F17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20D85-66A5-45C2-8316-D4E7CC88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75A2C-396E-417A-AABD-DAFEF53B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2EF71-1A28-4C02-8D66-BE669BDF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0D9AF-6997-4360-A866-FC45D36B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6A8A56-6D67-4B01-A733-CFC1C1AD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56CEF-985A-4AAD-A436-47E2D975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92EAEB-CC74-4A9F-A8E6-DD8A1F87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1FA2C-1631-48DD-B92A-FBD9C6C8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DC8EE-97FD-45B4-95D6-ADB2F2AA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43F-BE52-4C16-9F7A-BFA2D395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1CBE-D24F-4D16-B982-4EFD3A7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74889-9BD7-48BF-8E26-188596CA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43E2A2-A677-473A-BFE3-C65F259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C1056E-02A3-4199-866D-5A7196F6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A089A0-1907-411A-9280-60E9C341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B10B6-DAE2-4456-9E47-D46742BA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0A0FB-894E-438B-8E09-16A0A98D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5ECCE-8988-42A6-BBFE-8E40CC9C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314349-972C-46A2-84BD-C2DA7A8B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CF00B-32B7-4300-9BBE-86CAC291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9E1B84-1D51-43E5-90A8-DB7FE099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1280-9BB7-4649-A1EA-15795704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236A18-D3BD-4D99-A37B-888878AC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A05A9-0AA7-4464-81EF-FB0106AD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02332-FFB2-44C1-88CE-186A0FED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7F8CCC-3249-42C1-99F1-17683421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A42BD-1D17-471A-ABE3-3C272972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B59EA6-7CD4-4DEC-B5FE-B36AA40A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27BBF-2F17-44E7-8191-F54539B9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756CB9-46B6-4ECC-9E62-F3DE8C09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CCED6-60DE-4108-BD53-38AAA4C5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6CADAE-8563-42C0-9216-24DEBE58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A4D2-A34E-4A19-9CA5-5CBEBADF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56E471-1854-4F40-8571-4668951E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329683-9052-4F5C-BB03-DD8AA926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3AD33E-C1E9-483C-9DBE-7B67231E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913E3B-B7F2-4899-8091-9BA6DA7D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D7D79-5DEF-4F9E-9631-C03EC256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E243E3-9CD9-445E-B33B-E6F268B1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1308E4-C534-45A5-AB88-8502640F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5DE38-2290-45F5-88DB-AAA9ED84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887E5A-840F-43C5-A7FB-0B0C2423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58B378-1A02-4980-BE72-55672DBA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CD87-0770-40B0-9B7D-ECC1CACE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EE4724-5FDD-48B5-B59D-D277677D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E0ED92-CBB0-4740-ADC8-DA5A19A0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F70A23-7120-4CF8-8929-86E754BE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61540C-ACA8-48A7-A22A-0277F26A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69F3D1-AE9D-41F9-A816-44DE08D8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0FAA33-423C-4B24-99D7-58B27D6E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035604-09F3-4F05-8C41-6FA45552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E6CEC-0D3C-4129-8159-3E6E3055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FF2012-C182-43B6-BD17-A3FD84E6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D251D-3A94-45F6-9444-06808D79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21E3-E31A-48DC-B198-FFE08867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9C0694-4C58-4EDF-BD97-21043B2B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647EB4-42E0-49C2-AE20-836F0733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619F7D-BB8A-427F-9627-E1B05AD8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5C48E3-9D12-4213-8219-609A292B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C70771-775B-4DE6-95E0-98C49BEA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39D1D3-41C8-4CE7-84DA-726FE487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A7C57-63E5-441B-9E01-BDA24D04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D756D1-71E2-4334-9F0B-02D8AC1F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83874-BBC5-4971-BDBD-45D27A36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403D63-52B0-41D8-9774-23BFE824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F4FB-5177-4FB6-8E87-9BB49886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8AA894-1B48-4F25-A583-417A3411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E1DB67-B85C-4F33-8901-5C505F82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D7DB6D-726B-4625-A261-45B72C87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B3F3-6F17-47E3-9944-99E845D4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9F62-1A76-4423-ABC6-07CCA378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5300-3D18-414E-A94E-0CCC7767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CD35F-6611-4CF3-9DDC-96E35C04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4F8-DF17-44B0-8638-F64668F6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D532-3C33-4173-A20C-76477FC6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B4231-60BE-475F-ABF0-3594D493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FF56-3E12-48E0-B17E-A99447A4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E114-5D92-4B81-8B61-2646B2A9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40753-0FA5-4086-80BD-78021097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B5692-ED66-45E3-8E17-C4A217A5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A1349-969E-4F1B-86AE-89D0C79D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BFC2A-A932-49B1-ABCB-7529889A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C3AC1-664E-49D2-BFC3-64D2D929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C11E1-2D0F-4D82-A1E7-4693899A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703-3078-45EA-8C37-196A0236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67E50-C113-408B-A73A-EC31A7AD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09CA4-9602-4059-ACAB-3F8FF138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88093-C1D6-4B41-BAAF-F72B92A6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E870-449F-4F1D-B5FE-11C7379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5EB5C-EE21-4CC2-9606-E143303A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36426-674A-454E-B94F-3245E5D4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F56D3-EE51-4783-8F6B-7621F79A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332E3-68AB-40CC-A9D6-2170E19B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65956-52C4-46FF-ADF4-C1F42F0F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15E6B-3BA0-4A25-A38E-2D22F213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187-F0FC-43C0-BCDA-BB08ECF6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31014-C279-4237-B81C-9CE0B3E6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EB70B-A69F-477D-8A43-63CE9863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6D6C6-FF21-4B51-BA66-29ADB62F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0300E-FFA4-4BE0-B88E-E3031BCD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08A08-4686-4A26-9FA0-99DA88AE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76C62-0ED8-4284-890E-ADF5E269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C41C4-E69D-4879-A2FD-DF048178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6F9A7-5A58-4FC4-BEF8-3E412F92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B931D-7B46-41A5-BFF7-D961B504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F150-F261-40DF-A91F-44A6454B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BA26-CAAC-49BC-A2E0-01799390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7F33B-443A-40D7-9D1E-730A523B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4EE67-113F-455B-891E-0AC198A7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F8550-3952-4B76-991A-D498142C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F5D1A-9C72-4E17-83AD-4EA70FAB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BE08C-20D2-4D4B-90FF-8D07E8FB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638F7-271A-46E8-B4CF-B4F5577F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93732-DEF3-4D59-821A-A0B605E7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0E765-BD39-4EC3-B111-F342487D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DB294-EC77-4B46-A3D6-86312854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D4D9C-723F-49C1-9349-98765CB6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E24-B765-49B2-92DB-389262F7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E43F6-7A57-4ABE-8743-B22F4776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BA494-8D7A-4D0B-861A-09C1D80F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96E89-7328-4B29-8AD5-2D5F710D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0AC0B-609B-4E43-B338-1C8430D0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CCFB7-BDAE-4D36-8F0C-8BDA470E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76E0A-DF98-432F-8D67-099C60D8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1FAE2-2356-46E8-8126-2681F116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87D6E-CA10-4275-ACDE-3BCA181C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D52AC-BF97-4563-AFE6-D23DE04D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4D200-0F82-4F4E-B5DB-079C08AF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19C-C53E-4BD3-8D6B-C435BD27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EFCAD-87C0-4DB6-AA84-6B06F1BE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A809A-0F70-4F62-8268-F0C60626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E2213-10CD-419A-8A87-E8E0C7C8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97D64-184A-459F-A0AA-9F449A25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A4AA8-DBA3-4349-ABF3-9B646B3F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520FB-1C6E-40A8-9642-2B3A6661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64712-5880-444A-AE37-32E5758D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C91FF-935C-4E85-ADB0-85516F45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CE974-ACD7-43E1-871F-3E7D046F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3DC6F-7106-4AE2-8D24-0282ACB7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7E0-AB1A-4CE8-8679-A70DB14A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667B0-262B-45EE-AF4C-600E04F8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8DE9A-D3FB-46D1-BE0B-803A20FB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78916-CF85-4727-BDD8-16D22A99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92287-223E-4C00-B6AB-AF154216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266A7-F197-4D43-ACEF-6DC518FA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3D713-1F5F-4D93-A264-4F936AB6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1F00A-686E-4156-8F94-0E1B0FC3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77256-9791-41B5-98F8-9D9CC644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AA4A8-C0BA-4E3E-B260-D127DB30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95A12-5A09-4D7B-BCD4-250905D1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5824-2475-4724-9504-56ECD02FC1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A6ED-9452-4635-A46D-FF1C2BC14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CA9C-D997-4D9E-984A-DC73180EE2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795C-086F-4297-850E-3E60423F3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A988-6703-46B6-8FE6-D3F0530C18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F995-58EF-4DF0-B861-CA9235706A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CB0F-9F37-44ED-A07D-96EA3E7624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6D6D-405C-4A5C-BF1D-732DD9FA4E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B7F2-10A2-456E-A4EC-5C3FE6EAA9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1F07-2355-4445-B007-10B2FC9C31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271F-5DAB-47A2-9F58-A400F0A60E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8C09-8AAF-4CB1-BD99-0C7D437884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8855-A6C9-4ADF-A45E-A5EFCFC7AC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1FEB-ADDC-42AA-90DF-77F5AA612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E509-6830-4E01-A17C-56AC8BB16A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CB3F-2F5D-4E5F-BA9B-7ED6A99187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4924-D6A7-4956-8020-5C549E844C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2010-3FE2-4BEF-88DA-A16EF06B10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5653-11FC-4D20-8544-3E8039511B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5F14-899E-46AC-93B4-626F47432E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524E-28C7-403C-90FD-B09978046D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7FE0-B577-4FAB-ABB1-320C63A505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D5F6-CD43-43EA-8D61-6A679DF093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D76B-3D38-4DC9-8822-959A8FEC51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3929-592B-4F57-9D34-19484F6746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9623-83DC-4F3E-A938-70AE27D378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1D08-61DF-4C3E-ACC0-F7AE9530DB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BF37-C63F-42A2-A9FC-5234F5B956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0B9F-0965-4740-8D3E-60912052AB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1A63-7ACE-4B91-9611-3E3ABA3DE1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C42A-FC4B-4EB5-B859-E096F8A06A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83BC-573E-4051-BA2B-77C16CCBBE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BDA2-5C4A-49BB-AAED-0E38B8B4CE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A284-EFF9-4017-A35F-69E13B5918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3C96-053B-4BA8-AFDB-772BCB4FBC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B643-0C32-4633-9792-521F6D31C3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F55C-ACA5-4839-897E-0BF19D84C1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831E-F770-4BA5-9663-56BFF1EE79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3838-BE92-4512-99EF-E69B878167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900F-8713-4F45-9D07-D1A4437E52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488880" y="1860480"/>
            <a:ext cx="7970760" cy="9208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79280" y="3693960"/>
            <a:ext cx="885672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图片 69633" descr=""/>
          <p:cNvPicPr/>
          <p:nvPr/>
        </p:nvPicPr>
        <p:blipFill>
          <a:blip r:embed="rId1"/>
          <a:stretch/>
        </p:blipFill>
        <p:spPr>
          <a:xfrm>
            <a:off x="1090440" y="1125360"/>
            <a:ext cx="6963120" cy="213372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69634" descr=""/>
          <p:cNvPicPr/>
          <p:nvPr/>
        </p:nvPicPr>
        <p:blipFill>
          <a:blip r:embed="rId2"/>
          <a:stretch/>
        </p:blipFill>
        <p:spPr>
          <a:xfrm>
            <a:off x="719280" y="3552840"/>
            <a:ext cx="7705440" cy="21812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3"/>
          <a:stretch/>
        </p:blipFill>
        <p:spPr>
          <a:xfrm>
            <a:off x="4427640" y="165744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4"/>
          <a:stretch/>
        </p:blipFill>
        <p:spPr>
          <a:xfrm>
            <a:off x="4284720" y="233532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5"/>
          <a:stretch/>
        </p:blipFill>
        <p:spPr>
          <a:xfrm>
            <a:off x="7236000" y="162864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6"/>
          <a:stretch/>
        </p:blipFill>
        <p:spPr>
          <a:xfrm>
            <a:off x="7236000" y="234936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7"/>
          <a:stretch/>
        </p:blipFill>
        <p:spPr>
          <a:xfrm>
            <a:off x="2050920" y="407664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8"/>
          <a:stretch/>
        </p:blipFill>
        <p:spPr>
          <a:xfrm>
            <a:off x="1979640" y="4797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9"/>
          <a:stretch/>
        </p:blipFill>
        <p:spPr>
          <a:xfrm>
            <a:off x="4932360" y="407664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0"/>
          <a:stretch/>
        </p:blipFill>
        <p:spPr>
          <a:xfrm>
            <a:off x="5003640" y="4797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1"/>
          <a:stretch/>
        </p:blipFill>
        <p:spPr>
          <a:xfrm>
            <a:off x="7956720" y="407664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12"/>
          <a:stretch/>
        </p:blipFill>
        <p:spPr>
          <a:xfrm>
            <a:off x="7942320" y="4797360"/>
            <a:ext cx="936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66840" y="825480"/>
            <a:ext cx="8410320" cy="5772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059280" y="3471840"/>
            <a:ext cx="720720" cy="433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877080" y="2781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308720" y="34718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843280" y="5013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3274920" y="57038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6877080" y="5013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7308720" y="5703840"/>
            <a:ext cx="576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290520" y="1085760"/>
            <a:ext cx="8562960" cy="4686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3492360" y="198900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3635280" y="3198960"/>
            <a:ext cx="432000" cy="4330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4427640" y="357336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651640" y="4667400"/>
            <a:ext cx="431640" cy="4330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6084720" y="5127480"/>
            <a:ext cx="432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961920" y="947880"/>
            <a:ext cx="7220160" cy="49622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3780000" y="90792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5580000" y="1887480"/>
            <a:ext cx="647640" cy="433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4788000" y="2362320"/>
            <a:ext cx="2376360" cy="433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3780000" y="368784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4427640" y="449568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3448080" y="4970520"/>
            <a:ext cx="1873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7352" descr=""/>
          <p:cNvPicPr/>
          <p:nvPr/>
        </p:nvPicPr>
        <p:blipFill>
          <a:blip r:embed="rId1"/>
          <a:stretch/>
        </p:blipFill>
        <p:spPr>
          <a:xfrm>
            <a:off x="785880" y="1581120"/>
            <a:ext cx="7572240" cy="36957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3276720" y="1685880"/>
            <a:ext cx="647640" cy="4334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7380360" y="1700280"/>
            <a:ext cx="647640" cy="4334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3492360" y="2550960"/>
            <a:ext cx="648000" cy="4334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7380360" y="2550960"/>
            <a:ext cx="647640" cy="4334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3492360" y="3284640"/>
            <a:ext cx="648000" cy="433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7380360" y="3284640"/>
            <a:ext cx="647640" cy="4334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8"/>
          <a:stretch/>
        </p:blipFill>
        <p:spPr>
          <a:xfrm>
            <a:off x="3492360" y="4005360"/>
            <a:ext cx="648000" cy="4334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9"/>
          <a:stretch/>
        </p:blipFill>
        <p:spPr>
          <a:xfrm>
            <a:off x="7380360" y="4005360"/>
            <a:ext cx="647640" cy="4334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0"/>
          <a:stretch/>
        </p:blipFill>
        <p:spPr>
          <a:xfrm>
            <a:off x="3492360" y="4724280"/>
            <a:ext cx="648000" cy="4334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1"/>
          <a:stretch/>
        </p:blipFill>
        <p:spPr>
          <a:xfrm>
            <a:off x="7380360" y="4724280"/>
            <a:ext cx="6476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6324" descr=""/>
          <p:cNvPicPr/>
          <p:nvPr/>
        </p:nvPicPr>
        <p:blipFill>
          <a:blip r:embed="rId1"/>
          <a:stretch/>
        </p:blipFill>
        <p:spPr>
          <a:xfrm>
            <a:off x="285840" y="1209600"/>
            <a:ext cx="8572320" cy="44388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3419640" y="154296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3419640" y="2292480"/>
            <a:ext cx="504720" cy="4330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7553160" y="154152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7553160" y="229068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3405240" y="350028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3405240" y="424980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3419640" y="4998960"/>
            <a:ext cx="360360" cy="4334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7524720" y="350028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7524720" y="424980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7539120" y="4998960"/>
            <a:ext cx="360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5300" descr=""/>
          <p:cNvPicPr/>
          <p:nvPr/>
        </p:nvPicPr>
        <p:blipFill>
          <a:blip r:embed="rId1"/>
          <a:stretch/>
        </p:blipFill>
        <p:spPr>
          <a:xfrm>
            <a:off x="399960" y="1943280"/>
            <a:ext cx="8344080" cy="29718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3836880" y="234936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3822840" y="324180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3822840" y="40766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7812000" y="2276640"/>
            <a:ext cx="505080" cy="4330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7797960" y="316872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7"/>
          <a:stretch/>
        </p:blipFill>
        <p:spPr>
          <a:xfrm>
            <a:off x="7797960" y="4003560"/>
            <a:ext cx="504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54276" descr=""/>
          <p:cNvPicPr/>
          <p:nvPr/>
        </p:nvPicPr>
        <p:blipFill>
          <a:blip r:embed="rId1"/>
          <a:stretch/>
        </p:blipFill>
        <p:spPr>
          <a:xfrm>
            <a:off x="681120" y="905040"/>
            <a:ext cx="7781760" cy="56196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2"/>
          <a:stretch/>
        </p:blipFill>
        <p:spPr>
          <a:xfrm>
            <a:off x="1332000" y="5300640"/>
            <a:ext cx="4464000" cy="4334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3"/>
          <a:stretch/>
        </p:blipFill>
        <p:spPr>
          <a:xfrm>
            <a:off x="1332000" y="6078600"/>
            <a:ext cx="4464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2231" descr=""/>
          <p:cNvPicPr/>
          <p:nvPr/>
        </p:nvPicPr>
        <p:blipFill>
          <a:blip r:embed="rId1"/>
          <a:stretch/>
        </p:blipFill>
        <p:spPr>
          <a:xfrm>
            <a:off x="504720" y="1123920"/>
            <a:ext cx="8134560" cy="47530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1187280" y="4610160"/>
            <a:ext cx="5185080" cy="433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1187280" y="5373720"/>
            <a:ext cx="6409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47:0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